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484-C920-441E-A84D-1A366060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611-B662-4122-A050-21FBABB6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A68-C844-47AD-B477-A66772E8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284-F228-4B38-BD9C-60FB0351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598-35EE-44A5-B9BA-B40BEAE1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71B-7D91-4D31-BF11-E0522EE9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105-E9D6-416B-9BD5-6EE0AD72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5E1-6090-4B3C-A8CA-44C95814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77D-2F19-40D7-834E-C475564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354-66E2-460D-B05F-9B478FF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A1E-F958-417A-889D-CD5B00B8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182-5119-4F03-B229-A71B1EAB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26C7-79E0-4BBB-B325-8FF69AAB1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onitor Finance Actions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73640" y="64371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8720" y="339480"/>
            <a:ext cx="75153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Financ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ccess to DA Form 2142, DA Form 2627, DA Form 4187, DA Form 4730, DA Form 5960, DD Form 2494, DD Form 2558, DD Form 2559, AR 27-10, AR 37–104–4, DoD Financial Management Regulation 7000.14–R, Volume 7A and DA Pam 600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26280" y="64371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8720" y="339480"/>
            <a:ext cx="75153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Verified that the Soldier meet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for special pay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listment and reenlistment bon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Verified that the Soldier is entitl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special pay for duty subjec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ile fire or imminent d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7364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8720" y="339480"/>
            <a:ext cx="75153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Verified that the Soldier meet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for special pay for fo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profici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Verified that the Soldier meet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for incentive pay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ardous du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78560" y="62848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339480"/>
            <a:ext cx="75153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Verified that the soldier rece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ances and that any chang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 on DA Form 596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Verified that requested allotm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met the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7364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339480"/>
            <a:ext cx="75153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Verified that the guidelines for non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ishment are m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Verified that the eligibility requiremen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for the Tricare Dental Plan (TD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224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339480"/>
            <a:ext cx="75153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13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Verified that all pay transaction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ted and any question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are properly docum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2240" y="62848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6T16:59:06Z</dcterms:created>
  <dc:creator>ADG</dc:creator>
  <dc:description/>
  <dc:language>en-US</dc:language>
  <cp:lastModifiedBy>Administrator</cp:lastModifiedBy>
  <cp:lastPrinted>1998-11-19T23:25:15Z</cp:lastPrinted>
  <dcterms:modified xsi:type="dcterms:W3CDTF">2005-07-08T12:09:49Z</dcterms:modified>
  <cp:revision>1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4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